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1D8-B66C-4CFD-B72C-643F0C5A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9F9-2C44-4BA7-B3C8-8A9D0A0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C81-CBE1-4203-B3D0-7B7BBA25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15D-E445-4C84-870E-B2724CA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6FA-F339-478B-9CCE-86F37E0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C93-0016-4E96-9675-5028ECC7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134-5A60-4C9A-A67C-A3E5A22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8E9-6A71-4719-B121-C523FD7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14D-94A7-4C62-9661-0DFBBE3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169-F740-4614-B8D5-02473B5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3E4-E588-417F-B7B1-3910514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FFA-2A57-4666-A540-E60DF1E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a5c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058-C4A9-4BCE-8217-10FBA5B72420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© KING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914E-28B2-42A3-AA49-FD325AB20CC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Afbeelding 6" descr="Afbeelding1.png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Werkplan StUF 2010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 17/2/2010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Henri Korver, Peter Klaver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ermarkten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tUF content migreren website K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prekende voorbeeld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Persberich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urfgroepen en forum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Artikelen in vakblad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Kwaliteit van de inhoud presenteren en uitdragen.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Opleiden (door derden), train de trainer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Inhoud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eer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(Door)ontwikkel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StUF standaard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Sectormodell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Tool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Certificer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Vermark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Plann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Legitimatie / omgevingsinput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da5c21"/>
                </a:solidFill>
                <a:latin typeface="Calibri"/>
              </a:rPr>
              <a:t>Invulling geven aan de speerpunten uit Werkplan KING 2010 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a5c21"/>
                </a:solidFill>
                <a:latin typeface="Calibri"/>
              </a:rPr>
              <a:t>StUF moet blijven voldoen aan de criteria van het College en Forum Standaardisatie  i.c. werken conform beheermodel/afspraken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da5c21"/>
                </a:solidFill>
                <a:latin typeface="Calibri"/>
              </a:rPr>
              <a:t>Inclusief (mogelijk) inspelen: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Input uit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denktanksessie met StUF RG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Doorbraken open standaaren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bestuurstafel “Heemskerk”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 (NOiV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NOiV onderzoek gebruik open standaarden (gemeentelijke input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(Bestaande) afhankelijkheden en afspraken met landelijke voorzieningen, BR’s en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NUP programma’s (WABO/LVO, BAG, WOZ, WMO?, mGBA?, WKPB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Invoering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binnengemeentelijk gebruik de BAG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Uitvoering samenwerking /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harmonisatie NEN3610/Geonovum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Logius (GBO) voor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uniforme afspraken over netwerken (KPS, GemNet, SUWI, internet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Aansluiten van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gemeente servicebus aan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 Digikoppeling (OSB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Inspelen op mGBA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 - vraag aan KING van BZK om beheer van de functionele specs van aanvullende modules van nieuwe Burgerzaken-systeem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Vraag naar serviceregister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(Tilburg, Rotterdam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……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Beheer (continuïteit, onderhoud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Bestaande StUF standaarden (incl. stuf-ef, 2.xx  als 3.xx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Additionele producten (bestekteksten, opleiding, beheermodel, factsheets, artikelen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rrata- en wijzigingsproce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ommunity-voorziening, deelnemer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G en RG bijeenkoms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upport- en adviesdesk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1481040"/>
            <a:ext cx="7718400" cy="5234040"/>
          </a:xfrm>
          <a:prstGeom prst="rect">
            <a:avLst/>
          </a:prstGeom>
          <a:ln w="0">
            <a:noFill/>
          </a:ln>
        </p:spPr>
      </p:pic>
      <p:sp>
        <p:nvSpPr>
          <p:cNvPr id="51" name="Ovaal 5"/>
          <p:cNvSpPr/>
          <p:nvPr/>
        </p:nvSpPr>
        <p:spPr>
          <a:xfrm>
            <a:off x="0" y="4000680"/>
            <a:ext cx="8786880" cy="285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3"/>
          <p:cNvSpPr/>
          <p:nvPr/>
        </p:nvSpPr>
        <p:spPr>
          <a:xfrm>
            <a:off x="4071960" y="1071720"/>
            <a:ext cx="1143000" cy="28573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el 1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 door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Doorontwikkeling (1): StUF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Nieuwe release StUF-protocolbinding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Inspelen/volgen van mGBA, SUWI, WMO, Afval, berichtenbox, GOB, TMF, OSB , SOA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Uitvoeren</a:t>
            </a:r>
            <a:r>
              <a:rPr b="0" sz="2800" spc="-1" strike="noStrike">
                <a:solidFill>
                  <a:srgbClr val="da5c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van de  voorgestelde harmonisatie StUF/RGSB en NEN3610 (Geo)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ntwerpregels opstellen voor nieuwe StUF sectormodell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Primer-document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meenten stimuleren om StUF services voor te schrijven volgens bestekteksten t.b.v. programma van eisen en de aanzet voor een serviceregister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Doorontwikkeling (2): nieuwe koppelvlakken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-ZK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Binnengemeentelijke koppelvlakken voor BA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 mGBA ontwikkel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 SUWI ontwikkel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Actief participeren in Stelsel standaarden (nen3610 in combinatie met StUF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Doorontwikkeling (3): tooling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neratie van XML-schema’s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mzetting gegevensmodel naar berichtenmodel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Standaard adapter software (open source?)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Viewing en browsing tools voor StUF-gegevensmodellen en -berichtschema’s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Doorontwikkeling (4): certificering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StUF compliancy – pve afrond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p 1 lijn brengen met andere certificeringsonderwerpen van K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faseerde aanpak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Vervolg – selectietraject keuringinstituut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&lt;contract met keuringsinstituut&gt;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POC / experimenteren/ testen  (bijv top5 uit Bestuurtafel Heemskerk)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&lt;go/no go “StUF Keurmerk”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Opschaling naar keuren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Dilemma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c21"/>
                </a:solidFill>
                <a:latin typeface="Calibri"/>
              </a:rPr>
              <a:t>Vergt veel resources en expertise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c21"/>
                </a:solidFill>
                <a:latin typeface="Calibri"/>
              </a:rPr>
              <a:t>Extra commitment stakeholders noodzakelijk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